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202-1061-4AA0-967E-7F31C8EE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049-DBEB-4567-A84C-EFBEFA7F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F18-8A3A-4EDD-8A47-08A6553A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803-AFD8-4475-84E8-A6D16426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90B-74ED-4708-B153-6CDE504E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6C7-21DC-4DDB-A105-3BF9BBC1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EFA-CF21-4D18-A5BF-A6F0AF77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EC1-24F2-4CA4-BB91-C7FEF326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659-4951-4C00-BC72-094FABBE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9B4-FDD4-4FA9-A461-4C0F861A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16C-8973-4E4A-820B-F95908F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984-1196-4369-B8A2-36293CF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48FA-3D4E-4A81-A834-A34B2FD72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Modello Extend per la gestione di chiamate di emerg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4841640" cy="246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2133720"/>
            <a:ext cx="367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e generata 1 calam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ase al tipo di calamità vengono generate le chiamate di emerg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hiamata viene indirizzata al satellite dove si controlla la disponibilità di ca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24360" y="3860640"/>
            <a:ext cx="2857320" cy="2581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772320" y="4581360"/>
            <a:ext cx="237168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92720" y="5084640"/>
            <a:ext cx="6858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940360" y="5008320"/>
            <a:ext cx="719280" cy="220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4437000"/>
            <a:ext cx="26287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89000"/>
            <a:ext cx="889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 caso il satellite non abbia abbastanza banda disponibile, la chiamata viene ritardata di un intervallo da 0 a 3 minuti (simula il fatto che l’utente riattacchi il telefono e richiami più tar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è ipotizzato che un 25% delle chiamate ritardate vada direttamente in uscita (un quarto degli utenti che non riescono a prendere la linea rinunciano alla chiam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O 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3789360"/>
            <a:ext cx="57596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57360"/>
            <a:ext cx="468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RIZZAMENTO: la chiamata viene spedita all’antenna trasmittente in base all’attributo Zona Destin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ennaRic: ci permette di riassegnare le risorse liberate al termine della chiamata al pool dal quale erano state prele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do le chiamate vengono gestite dall’antenna, la sua banda disponibile cala per poi essere incrementata al ter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chiamata stessa (liberazione di risor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O 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magine 7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978280" cy="2562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797440" y="3862440"/>
            <a:ext cx="1511280" cy="107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000" y="4365720"/>
            <a:ext cx="108108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magine 18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4108320" cy="1060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43280" y="1484280"/>
            <a:ext cx="1368720" cy="1297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427640" y="2421000"/>
            <a:ext cx="28872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84280"/>
            <a:ext cx="54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AMATA: in base all’attributo Durata viene definita il tempo richiesto per la chi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O 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magine 19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2519280" cy="1103400"/>
          </a:xfrm>
          <a:prstGeom prst="rect">
            <a:avLst/>
          </a:prstGeom>
          <a:ln w="0">
            <a:noFill/>
          </a:ln>
        </p:spPr>
      </p:pic>
      <p:pic>
        <p:nvPicPr>
          <p:cNvPr id="131" name="Immagine 20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8640720" cy="2516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0920" y="2708280"/>
            <a:ext cx="85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LASCIO RISORSE: al termine della chiamata vengono riassegnate le risorse all’antenna in base all’attributo Banda Richiesta della chia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O 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500120"/>
            <a:ext cx="43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 attributo Banda Richiesta dalla chiamata può essere maggiorato se una della zone è colpita da intemperie. Tutte le chiamate da e per quella zona richiedono un 20% di banda in pi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magine 17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5651640" cy="2530440"/>
          </a:xfrm>
          <a:prstGeom prst="rect">
            <a:avLst/>
          </a:prstGeom>
          <a:ln w="0">
            <a:noFill/>
          </a:ln>
        </p:spPr>
      </p:pic>
      <p:pic>
        <p:nvPicPr>
          <p:cNvPr id="136" name="Immagine 2" descr="Immagine"/>
          <p:cNvPicPr/>
          <p:nvPr/>
        </p:nvPicPr>
        <p:blipFill>
          <a:blip r:embed="rId3"/>
          <a:stretch/>
        </p:blipFill>
        <p:spPr>
          <a:xfrm>
            <a:off x="4788000" y="1413000"/>
            <a:ext cx="4051080" cy="1726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48000" y="4365720"/>
            <a:ext cx="1440000" cy="115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500720" y="2924280"/>
            <a:ext cx="1008000" cy="151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O 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32000" y="1844640"/>
            <a:ext cx="5689800" cy="379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1780560"/>
            <a:ext cx="295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intemperie vengono generate con 2 attribu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COL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ase alla zona colpita dalle intemperie, l’entità viene spedita al BLOCCO INTEMPERIE dell’antenna trasmittente e dell’antenna ricevente che coprono tale 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4869000"/>
            <a:ext cx="718920" cy="57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427280" y="5157720"/>
            <a:ext cx="1081080" cy="4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7640" y="4724280"/>
            <a:ext cx="1152360" cy="974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596000" y="5516640"/>
            <a:ext cx="21564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5516640"/>
            <a:ext cx="70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ggio del numero di intemperie per ogni z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14920" y="5950080"/>
            <a:ext cx="33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manda al Catch del blocco intempe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ULTATI SIMU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125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amento cumulativo delle chia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5040000" cy="4032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227664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30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o 300 minuti dal manifestarsi dell’evento i tempi di interarrivo aumentano e la curva subisce una flessione. Lo stesso avviene dopo 600 minuti, ma il cambiamento non è più tanto significa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5562720"/>
            <a:ext cx="7925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o implica un utilizzo delle risorse attorno al 90% nella prima fase della simulazione, che gradualmente si liberano col passare del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556272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8360" y="556272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92144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015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2276640"/>
            <a:ext cx="6192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stema è ben dimensionato per le calamità più frequenti (terremoto, maremoto, tornado) mentre va in crisi per eventi come il terrorismo e arrivo di UFO che generano un numero molto elevato di chia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tempo medio per portare a termine una chiamata di emergenza è accettabile, in caso di bassa congestione si registrano tempi di circa 3 minuti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ercentuale di rinunce alla chiamata è tollerabile per un sistema di questo gen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2923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considera una piattaforma orbitale a alta o bassa altitudine utilizzata come sistema di comunicazione molti-a-molti in caso di emergenze (terremoti, maremoti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iattaforma è equipaggiata con un certo numero di antenne riceventi e di (distinte) antenne trasmittenti, ognuna ricoprente una porzione di territorio (le porzioni possono essere sovrappos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antenna ha un numero massimo di canali attivabili ed il numero complessivo di canali del satellite è fisso. Ogni canale ha una capacità trasmissiva di 64 kb/s. Una trasmissione avviene attivando k canali su un’antenna ricevente e altri k su un’antenna trasmit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aso di emergenza nascono dinamicamente nel tempo una serie di richieste di trasferimento di informazioni (chiamate) di diversa sorgente, destinazione, necessità di banda trasmissiva e dur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 vogliono simulare differenti scenari che si distinguono per gravità (maggior necessità di comunicazioni) e ampiezza del territorio interess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particolare si vuole capire quale deve essere il dimensionamento del satellite per ridurre opportunamente il tempo di attesa delle chiamate prima di avere risorse trasmissive disponibi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aria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capacità trasmissiva dei canali variabile con le intemp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MA DI FLU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620640"/>
            <a:ext cx="1512720" cy="8636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am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620640"/>
            <a:ext cx="1512720" cy="863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onos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am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620640"/>
            <a:ext cx="1513080" cy="863640"/>
          </a:xfrm>
          <a:prstGeom prst="flowChartProcess">
            <a:avLst/>
          </a:prstGeom>
          <a:solidFill>
            <a:srgbClr val="d569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azione di chiamat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Emergenz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opo 300 min. tempi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interarrivo minor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5157720"/>
            <a:ext cx="1224000" cy="649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 Chia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5157720"/>
            <a:ext cx="1440000" cy="649440"/>
          </a:xfrm>
          <a:prstGeom prst="flowChartProcess">
            <a:avLst/>
          </a:prstGeom>
          <a:solidFill>
            <a:srgbClr val="94f5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era tutti i can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 era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cupati da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iamata fin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2276640"/>
            <a:ext cx="1297080" cy="6476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menta del 20%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iesta di ban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le chia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3068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64000" y="5013360"/>
            <a:ext cx="1513080" cy="863640"/>
          </a:xfrm>
          <a:prstGeom prst="flowChartConnector">
            <a:avLst/>
          </a:prstGeom>
          <a:solidFill>
            <a:srgbClr val="f7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a FI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 l’assegnazion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le ris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16720" y="3860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765000"/>
            <a:ext cx="1871640" cy="1081440"/>
          </a:xfrm>
          <a:prstGeom prst="flowChartDecision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’è disponibilità global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 banda nel satelli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700280"/>
            <a:ext cx="5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907920"/>
            <a:ext cx="5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3"/>
            <a:endCxn id="53" idx="1"/>
          </p:cNvCxnSpPr>
          <p:nvPr/>
        </p:nvCxnSpPr>
        <p:spPr>
          <a:xfrm>
            <a:off x="5148360" y="1052280"/>
            <a:ext cx="504000" cy="25452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4427640" y="2060640"/>
            <a:ext cx="1871640" cy="1081080"/>
          </a:xfrm>
          <a:prstGeom prst="flowChartDecision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 sono intemperi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lla zona di origin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la chiamat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557360"/>
            <a:ext cx="1225800" cy="6476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locca le chiamata</a:t>
            </a:r>
            <a:br>
              <a:rPr sz="1000"/>
            </a:b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 ritardale </a:t>
            </a:r>
            <a:br>
              <a:rPr sz="1000"/>
            </a:b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i [0;3]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4" idx="3"/>
            <a:endCxn id="45" idx="1"/>
          </p:cNvCxnSpPr>
          <p:nvPr/>
        </p:nvCxnSpPr>
        <p:spPr>
          <a:xfrm>
            <a:off x="1620720" y="10522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5" idx="3"/>
            <a:endCxn id="46" idx="1"/>
          </p:cNvCxnSpPr>
          <p:nvPr/>
        </p:nvCxnSpPr>
        <p:spPr>
          <a:xfrm>
            <a:off x="3348000" y="1052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3" idx="3"/>
            <a:endCxn id="58" idx="0"/>
          </p:cNvCxnSpPr>
          <p:nvPr/>
        </p:nvCxnSpPr>
        <p:spPr>
          <a:xfrm>
            <a:off x="7522920" y="1306080"/>
            <a:ext cx="541800" cy="25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451640" y="2708280"/>
            <a:ext cx="1225800" cy="6476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ortisci chiama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 probabilità del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8" idx="2"/>
            <a:endCxn id="62" idx="0"/>
          </p:cNvCxnSpPr>
          <p:nvPr/>
        </p:nvCxnSpPr>
        <p:spPr>
          <a:xfrm>
            <a:off x="8064000" y="220500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2" idx="3"/>
            <a:endCxn id="53" idx="0"/>
          </p:cNvCxnSpPr>
          <p:nvPr/>
        </p:nvCxnSpPr>
        <p:spPr>
          <a:xfrm flipH="1" flipV="1">
            <a:off x="6587640" y="764640"/>
            <a:ext cx="2090160" cy="2268000"/>
          </a:xfrm>
          <a:prstGeom prst="bentConnector4">
            <a:avLst>
              <a:gd name="adj1" fmla="val -10938"/>
              <a:gd name="adj2" fmla="val 1100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1"/>
            <a:endCxn id="49" idx="3"/>
          </p:cNvCxnSpPr>
          <p:nvPr/>
        </p:nvCxnSpPr>
        <p:spPr>
          <a:xfrm flipH="1" flipV="1">
            <a:off x="4140000" y="2599560"/>
            <a:ext cx="28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3" idx="2"/>
            <a:endCxn id="57" idx="0"/>
          </p:cNvCxnSpPr>
          <p:nvPr/>
        </p:nvCxnSpPr>
        <p:spPr>
          <a:xfrm rot="5400000">
            <a:off x="5868360" y="1341360"/>
            <a:ext cx="214920" cy="1224720"/>
          </a:xfrm>
          <a:prstGeom prst="bentConnector3">
            <a:avLst>
              <a:gd name="adj1" fmla="val 494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84360" y="1989000"/>
            <a:ext cx="1871640" cy="1225800"/>
          </a:xfrm>
          <a:prstGeom prst="flowChartDecision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’è disponibilità di band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lla singola antenn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even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9" idx="1"/>
            <a:endCxn id="67" idx="3"/>
          </p:cNvCxnSpPr>
          <p:nvPr/>
        </p:nvCxnSpPr>
        <p:spPr>
          <a:xfrm flipH="1">
            <a:off x="2555640" y="2599920"/>
            <a:ext cx="28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7" idx="2"/>
            <a:endCxn id="58" idx="1"/>
          </p:cNvCxnSpPr>
          <p:nvPr/>
        </p:nvCxnSpPr>
        <p:spPr>
          <a:xfrm flipH="1" flipV="1" rot="5400000">
            <a:off x="3867840" y="-367560"/>
            <a:ext cx="1334160" cy="5831280"/>
          </a:xfrm>
          <a:prstGeom prst="bentConnector4">
            <a:avLst>
              <a:gd name="adj1" fmla="val -17139"/>
              <a:gd name="adj2" fmla="val 92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763640" y="31417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2349360"/>
            <a:ext cx="5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3789360"/>
            <a:ext cx="1800000" cy="79200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’antenna riceven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dibita alla zona sorgente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 più disponibilità prend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carico la chiam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7" idx="2"/>
            <a:endCxn id="67" idx="3"/>
          </p:cNvCxnSpPr>
          <p:nvPr/>
        </p:nvCxnSpPr>
        <p:spPr>
          <a:xfrm flipV="1" rot="16200000">
            <a:off x="3689640" y="1467000"/>
            <a:ext cx="540360" cy="2808720"/>
          </a:xfrm>
          <a:prstGeom prst="bentConnector4">
            <a:avLst>
              <a:gd name="adj1" fmla="val -27600"/>
              <a:gd name="adj2" fmla="val 941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7" idx="1"/>
            <a:endCxn id="72" idx="1"/>
          </p:cNvCxnSpPr>
          <p:nvPr/>
        </p:nvCxnSpPr>
        <p:spPr>
          <a:xfrm flipV="1" rot="10800000">
            <a:off x="610560" y="2601720"/>
            <a:ext cx="73800" cy="1584720"/>
          </a:xfrm>
          <a:prstGeom prst="bentConnector3">
            <a:avLst>
              <a:gd name="adj1" fmla="val 4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395280" y="2349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4724280"/>
            <a:ext cx="1871640" cy="1225800"/>
          </a:xfrm>
          <a:prstGeom prst="flowChartDecision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’è disponibilità di band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lla singola antenn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smitten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3789360"/>
            <a:ext cx="1655640" cy="79200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egna le risorse 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rizza la chiamat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lla antenna trasmitten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 gestisce la zon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destin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2" idx="3"/>
            <a:endCxn id="77" idx="1"/>
          </p:cNvCxnSpPr>
          <p:nvPr/>
        </p:nvCxnSpPr>
        <p:spPr>
          <a:xfrm>
            <a:off x="2410920" y="41857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635280" y="5157720"/>
            <a:ext cx="1441440" cy="6476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egna le risorse 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arda le chiamat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base alla loro du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9" idx="1"/>
            <a:endCxn id="48" idx="3"/>
          </p:cNvCxnSpPr>
          <p:nvPr/>
        </p:nvCxnSpPr>
        <p:spPr>
          <a:xfrm flipH="1">
            <a:off x="3202920" y="5481720"/>
            <a:ext cx="432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8" idx="1"/>
            <a:endCxn id="47" idx="3"/>
          </p:cNvCxnSpPr>
          <p:nvPr/>
        </p:nvCxnSpPr>
        <p:spPr>
          <a:xfrm flipH="1">
            <a:off x="1402560" y="548280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4643280" y="3573360"/>
            <a:ext cx="1872000" cy="1150920"/>
          </a:xfrm>
          <a:prstGeom prst="flowChartDecision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 sono intemperi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lla zona di destinazion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la chiamat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51640" y="3716280"/>
            <a:ext cx="1297080" cy="6476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menta del 20%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iesta di ban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le chia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7" idx="3"/>
            <a:endCxn id="82" idx="1"/>
          </p:cNvCxnSpPr>
          <p:nvPr/>
        </p:nvCxnSpPr>
        <p:spPr>
          <a:xfrm flipV="1">
            <a:off x="4356000" y="4149000"/>
            <a:ext cx="288000" cy="3708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6514920" y="4039920"/>
            <a:ext cx="937080" cy="110160"/>
          </a:xfrm>
          <a:prstGeom prst="bentConnector3">
            <a:avLst>
              <a:gd name="adj1" fmla="val 49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781680" y="51055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3" idx="2"/>
            <a:endCxn id="76" idx="0"/>
          </p:cNvCxnSpPr>
          <p:nvPr/>
        </p:nvCxnSpPr>
        <p:spPr>
          <a:xfrm>
            <a:off x="8100720" y="436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6" idx="1"/>
            <a:endCxn id="51" idx="6"/>
          </p:cNvCxnSpPr>
          <p:nvPr/>
        </p:nvCxnSpPr>
        <p:spPr>
          <a:xfrm flipV="1" rot="10800000">
            <a:off x="6876360" y="5336640"/>
            <a:ext cx="288000" cy="108720"/>
          </a:xfrm>
          <a:prstGeom prst="bentConnector3">
            <a:avLst>
              <a:gd name="adj1" fmla="val 501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6" idx="2"/>
            <a:endCxn id="79" idx="3"/>
          </p:cNvCxnSpPr>
          <p:nvPr/>
        </p:nvCxnSpPr>
        <p:spPr>
          <a:xfrm flipV="1" rot="16200000">
            <a:off x="6354000" y="4203000"/>
            <a:ext cx="469080" cy="3025080"/>
          </a:xfrm>
          <a:prstGeom prst="bentConnector4">
            <a:avLst>
              <a:gd name="adj1" fmla="val -48771"/>
              <a:gd name="adj2" fmla="val 95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1" idx="2"/>
            <a:endCxn id="79" idx="3"/>
          </p:cNvCxnSpPr>
          <p:nvPr/>
        </p:nvCxnSpPr>
        <p:spPr>
          <a:xfrm flipV="1" rot="10800000">
            <a:off x="5076000" y="5444640"/>
            <a:ext cx="288000" cy="3744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6588000" y="595008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2" idx="2"/>
            <a:endCxn id="76" idx="0"/>
          </p:cNvCxnSpPr>
          <p:nvPr/>
        </p:nvCxnSpPr>
        <p:spPr>
          <a:xfrm flipH="1" rot="16200000">
            <a:off x="6838560" y="3464280"/>
            <a:ext cx="2520" cy="2521800"/>
          </a:xfrm>
          <a:prstGeom prst="bentConnector5">
            <a:avLst>
              <a:gd name="adj1" fmla="val 7183333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5867280" y="45720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O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7786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TIPOLOGIE DI CALAM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EMO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abilità: 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EMO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abilità: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N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abilità: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ORIS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abilità: 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O DI U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babilità: 0,0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conda della tipologia di calamità verificatasi corrispondono tempi di generazione di chiamate di emergenza più o meno bre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gni chiamata generata ha 4 attribu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i ori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i desti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a 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40672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satellite h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antenne ricev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antenne trasmittent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gestiscono 5 zone del 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OTESI 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magine 9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790880" cy="2224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08000" y="5046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149720"/>
            <a:ext cx="85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una di queste può sfruttare fino a 10 canali di capacità trasmissiva/ricettiva di 64 kbit/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è inoltre considerato un limite massimo di capacità del satellite pari a 3600 kbit/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OTESI 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773360"/>
            <a:ext cx="88930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in cui si verifichino INTEMPERIE, la necessità di banda ricettiva/trasmissiva per le comunicazioni telefoniche aumenta. In tal caso si è ipotizzata una necessità di banda superiore del 20% rispetto alla normalit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empo totale per ogni simulazione è di 24 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valori considerati per la simulazione sono i segue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magine 10" descr=""/>
          <p:cNvPicPr/>
          <p:nvPr/>
        </p:nvPicPr>
        <p:blipFill>
          <a:blip r:embed="rId2"/>
          <a:stretch/>
        </p:blipFill>
        <p:spPr>
          <a:xfrm>
            <a:off x="1258920" y="4365720"/>
            <a:ext cx="6626160" cy="1419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35280" y="447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L MOD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87854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0:29:14Z</dcterms:created>
  <dc:creator>Nome utente</dc:creator>
  <dc:description/>
  <dc:language>en-US</dc:language>
  <cp:lastModifiedBy>Davide</cp:lastModifiedBy>
  <dcterms:modified xsi:type="dcterms:W3CDTF">2007-12-19T23:54:51Z</dcterms:modified>
  <cp:revision>29</cp:revision>
  <dc:subject/>
  <dc:title>Diapositiva 1</dc:title>
</cp:coreProperties>
</file>